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8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4DA-0928-48C5-8D1B-2A4B7E4420B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6513480"/>
            <a:ext cx="430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8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D64-B573-4D46-A8AE-9FD328C1C6F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513480"/>
            <a:ext cx="430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8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1C87-5E2E-41DF-821D-AE58FB1AA92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0BE-C236-4395-A484-99B44EF8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420-C29C-4ED8-A296-E18133C7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4A1-1785-4085-ABB0-C27F86DB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132-3659-44A4-AB89-0D03C95E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13F-5073-4453-9D08-94B6491D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C64-DA42-41D3-8C90-E6AAE7A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A84-463A-4FFB-ACBD-85B12C45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49A-4BDE-46FE-9DA3-721B4896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22D-9706-470F-BC43-B219317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B16-B27E-4A42-BA1F-587BE58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DCB-8CA7-4120-86E1-54E56E6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B0A-8B6A-4F0C-83FC-6CB8BBC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D88-CEED-4071-B80E-EAA61FCF37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4C1-CFB1-4FBA-AE95-46BE75767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bacterial%20studies.mp4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52280" y="2060640"/>
            <a:ext cx="7010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ience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44600" y="5334120"/>
            <a:ext cx="458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irna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042920" y="3716280"/>
            <a:ext cx="5337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8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41840" y="4076640"/>
            <a:ext cx="2990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must be able to be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6705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al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The Dirtiest Item at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 a class we believe that ________ is the dirtiest item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hypothes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_____ then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The Dirtiest Item at School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dependent variab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will be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pendent variab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will b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trolled variable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ill b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The Dirtiest Item at School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are going to test our hypothesis by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are going to measure our results by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procedure will be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materials we will need are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a prac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a prac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what you d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esults and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what went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unexpected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to improve the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a prac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sentences to answer the a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I or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Dirtiest Item at School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re our independent, dependent and controlled vari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these result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not to touch the pl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you touch anything other than the item being tested with the swab? Why/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re any unexpected 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ould we improve the experiment nex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2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cienc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6705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is discovery and knowledge. It is about finding out why thing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is the understanding of the world we live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bout improving our quality of life. Technology refers to devices that have been produced using scientific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333399"/>
                </a:solidFill>
                <a:uFillTx/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Something we see and want to find out mo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 educated guess to answer a question.  Used to plan an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Develop a Fai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A fair test is one that all variables are kept constant excep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A component where all parts are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thing that changes and may affect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ependent variab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ctor that will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pendent Variab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ctor that will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trolled Variab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ctor that will be kept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riting a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port must con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ults/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2:02:36Z</dcterms:created>
  <dc:creator>Administrator</dc:creator>
  <dc:description/>
  <cp:keywords/>
  <dc:language>en-US</dc:language>
  <cp:lastModifiedBy>Frank</cp:lastModifiedBy>
  <dcterms:modified xsi:type="dcterms:W3CDTF">2012-02-21T11:08:36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24121033</vt:lpwstr>
  </property>
</Properties>
</file>